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321E-97EF-469F-8F09-29F9E3726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142-053A-4789-8DEE-020AE70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62D-1FFB-47E5-B2B9-806693D7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635-FD80-4D61-B4E4-5792CAA4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D14-59B7-4222-B956-CC16639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5BB-9290-43DC-9273-F9A9724D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E90-ECD2-4DE4-929D-F010DC71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DAEF-9047-4EC2-B042-E5E47915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EE3-4349-4DD0-843B-0697717C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F07-03E4-4924-AB0F-A5E53FF5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97B-C556-423F-AFA4-DE4FA900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932-D2D9-4D57-B5F5-FEC177C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2E0E-6C66-4BFE-92C5-54FE3C8F22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Drawing a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 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a 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__3___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_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4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 a 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5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C.4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388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t Apple Key + H (on M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just make? Go back to the first slide and fill in the five bla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you given? What did you draw on slide 2? Be specific about locations of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914400" y="1847880"/>
            <a:ext cx="74343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BD and C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r points may be labeled differently and that is okay. You still need to find the measures of these two seg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 you notice about the lengths of these segm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46832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Drawing a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  _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7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or a 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__8___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_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9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 a __</a:t>
            </a:r>
            <a:r>
              <a:rPr b="0" lang="en-US" sz="3200" spc="-1" strike="noStrike" u="sng">
                <a:solidFill>
                  <a:srgbClr val="898989"/>
                </a:solidFill>
                <a:uFillTx/>
                <a:latin typeface="Calibri"/>
              </a:rPr>
              <a:t>10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.C.4(+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do not have to make the letter this large, you just need to make the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828800" y="2773440"/>
            <a:ext cx="48769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447920" y="1336680"/>
            <a:ext cx="64008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600200" y="1074600"/>
            <a:ext cx="6400800" cy="52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23840" y="1238400"/>
            <a:ext cx="68248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 -&gt; Perpendicular 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676520" y="1163520"/>
            <a:ext cx="556236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GSP and 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9004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295280" y="1095480"/>
            <a:ext cx="6172200" cy="54021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t Apple Key + H (on Ma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id you just make? Go back to the first slide and fill in the five blan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ere you given? What did you draw on slide 15? Be specific about locations of the objec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6080" y="1252440"/>
            <a:ext cx="87930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light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09480" y="1339920"/>
            <a:ext cx="79250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struct -&gt; Midpoi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609480" y="1308240"/>
            <a:ext cx="746784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5800" y="1130400"/>
            <a:ext cx="792468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990720" y="1332000"/>
            <a:ext cx="71625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ld down the line segment button until you see a menu. Choose the l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2081160" cy="4946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562720" y="1370160"/>
            <a:ext cx="1828800" cy="489096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7"/>
          <p:cNvCxnSpPr/>
          <p:nvPr/>
        </p:nvCxnSpPr>
        <p:spPr>
          <a:xfrm flipV="1">
            <a:off x="2133720" y="3885840"/>
            <a:ext cx="3048480" cy="92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785880" y="990720"/>
            <a:ext cx="7367400" cy="5589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17:11:31Z</dcterms:created>
  <dc:creator>.</dc:creator>
  <dc:description/>
  <dc:language>en-US</dc:language>
  <cp:lastModifiedBy>.</cp:lastModifiedBy>
  <dcterms:modified xsi:type="dcterms:W3CDTF">2013-05-07T19:32:02Z</dcterms:modified>
  <cp:revision>14</cp:revision>
  <dc:subject/>
  <dc:title>Drawing a Tangent Line</dc:title>
</cp:coreProperties>
</file>